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9999-3F05-46BA-BD2A-67C5C1E660D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Google Shape;200;p3:notes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3FAC-919A-45F2-B04D-E549A949973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Google Shape;207;p4:notes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9E63-939B-4FF9-BE60-E109ED81917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DAF-8EDB-4852-AA49-574A494F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100155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3920" y="4298400"/>
            <a:ext cx="100155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318-8EAF-4FF4-8C15-3DFCCDF8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608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3920" y="429840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6080" y="429840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4F5-68A8-4C0A-A43E-E9693D74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0440" y="266652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6960" y="266652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3920" y="429840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0440" y="429840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6960" y="429840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ECE-B375-4326-BAA8-3F2604AA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6C68-8993-4ABD-AAAD-DA71C60D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3920" y="2666520"/>
            <a:ext cx="1001556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7262-A3AA-4868-B9A8-172685C3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100155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55DC-D650-4D7C-9313-D1A3E1B1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48873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6080" y="2666520"/>
            <a:ext cx="48873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B1AB-8655-4963-8CE8-60C30F88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53EF-A421-4F6F-A247-BD9BC9BE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3920" y="685800"/>
            <a:ext cx="100155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D120-E7E4-45F0-A249-AABDEC30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6080" y="2666520"/>
            <a:ext cx="48873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3920" y="429840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9480-AA98-4645-90C5-983DAC60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3920" y="2666520"/>
            <a:ext cx="1001556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B99-8729-496B-87F5-443B14CB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48873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608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080" y="429840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A785-110D-4CDF-B522-F4E842A3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608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3920" y="4298400"/>
            <a:ext cx="100155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8703-9B6F-433E-83AA-8445E011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100155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3920" y="4298400"/>
            <a:ext cx="100155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782D-9F25-4CC8-9A5A-DD0950B2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608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3920" y="429840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6080" y="429840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813F-86C6-41C5-88FE-49B66D73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0440" y="266652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6960" y="266652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3920" y="429840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0440" y="429840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6960" y="4298400"/>
            <a:ext cx="322488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0225-5704-4F7B-93F2-D357C4A6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100155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830-A1F4-4678-88B5-A9872656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48873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6080" y="2666520"/>
            <a:ext cx="48873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6C9-B607-4369-A899-14B9714D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BE5-B46D-4161-9FB6-42EB5B76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3920" y="685800"/>
            <a:ext cx="100155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77A-78E3-4477-9293-247D1FD2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6080" y="2666520"/>
            <a:ext cx="48873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3920" y="429840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C88-E2BF-488A-ABB2-C52AF01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48873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608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6080" y="429840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430-6D60-4D9C-BA76-AB34AA70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392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6080" y="2666520"/>
            <a:ext cx="48873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3920" y="4298400"/>
            <a:ext cx="10015560" cy="149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9103-E18D-4B47-9EAC-E1C087B2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oogle Shape;10;p1"/>
          <p:cNvGrpSpPr/>
          <p:nvPr/>
        </p:nvGrpSpPr>
        <p:grpSpPr>
          <a:xfrm>
            <a:off x="150840" y="0"/>
            <a:ext cx="2436840" cy="360"/>
            <a:chOff x="150840" y="0"/>
            <a:chExt cx="2436840" cy="360"/>
          </a:xfrm>
        </p:grpSpPr>
        <p:sp>
          <p:nvSpPr>
            <p:cNvPr id="1" name="Google Shape;11;p1"/>
            <p:cNvSpPr/>
            <p:nvPr/>
          </p:nvSpPr>
          <p:spPr>
            <a:xfrm>
              <a:off x="151560" y="0"/>
              <a:ext cx="2436120" cy="36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Google Shape;12;p1"/>
            <p:cNvSpPr/>
            <p:nvPr/>
          </p:nvSpPr>
          <p:spPr>
            <a:xfrm>
              <a:off x="150840" y="0"/>
              <a:ext cx="360" cy="36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Google Shape;13;p1"/>
            <p:cNvSpPr/>
            <p:nvPr/>
          </p:nvSpPr>
          <p:spPr>
            <a:xfrm>
              <a:off x="150840" y="0"/>
              <a:ext cx="360" cy="36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Google Shape;14;p1"/>
            <p:cNvSpPr/>
            <p:nvPr/>
          </p:nvSpPr>
          <p:spPr>
            <a:xfrm>
              <a:off x="151560" y="0"/>
              <a:ext cx="2436120" cy="36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54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Google Shape;15;p1"/>
            <p:cNvSpPr/>
            <p:nvPr/>
          </p:nvSpPr>
          <p:spPr>
            <a:xfrm>
              <a:off x="151560" y="0"/>
              <a:ext cx="2436120" cy="36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87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Google Shape;16;p1"/>
            <p:cNvSpPr/>
            <p:nvPr/>
          </p:nvSpPr>
          <p:spPr>
            <a:xfrm>
              <a:off x="150840" y="0"/>
              <a:ext cx="360" cy="36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3920" y="2666520"/>
            <a:ext cx="100155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2936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1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4904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E07D-B2D8-4EBA-B613-42E1D43AD571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oogle Shape;10;p1"/>
          <p:cNvGrpSpPr/>
          <p:nvPr/>
        </p:nvGrpSpPr>
        <p:grpSpPr>
          <a:xfrm>
            <a:off x="150840" y="0"/>
            <a:ext cx="2436840" cy="360"/>
            <a:chOff x="150840" y="0"/>
            <a:chExt cx="2436840" cy="360"/>
          </a:xfrm>
        </p:grpSpPr>
        <p:sp>
          <p:nvSpPr>
            <p:cNvPr id="49" name="Google Shape;11;p1"/>
            <p:cNvSpPr/>
            <p:nvPr/>
          </p:nvSpPr>
          <p:spPr>
            <a:xfrm>
              <a:off x="151560" y="0"/>
              <a:ext cx="2436120" cy="36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Google Shape;12;p1"/>
            <p:cNvSpPr/>
            <p:nvPr/>
          </p:nvSpPr>
          <p:spPr>
            <a:xfrm>
              <a:off x="150840" y="0"/>
              <a:ext cx="360" cy="36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Google Shape;13;p1"/>
            <p:cNvSpPr/>
            <p:nvPr/>
          </p:nvSpPr>
          <p:spPr>
            <a:xfrm>
              <a:off x="150840" y="0"/>
              <a:ext cx="360" cy="36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Google Shape;14;p1"/>
            <p:cNvSpPr/>
            <p:nvPr/>
          </p:nvSpPr>
          <p:spPr>
            <a:xfrm>
              <a:off x="151560" y="0"/>
              <a:ext cx="2436120" cy="36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54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Google Shape;15;p1"/>
            <p:cNvSpPr/>
            <p:nvPr/>
          </p:nvSpPr>
          <p:spPr>
            <a:xfrm>
              <a:off x="151560" y="0"/>
              <a:ext cx="2436120" cy="36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87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Google Shape;16;p1"/>
            <p:cNvSpPr/>
            <p:nvPr/>
          </p:nvSpPr>
          <p:spPr>
            <a:xfrm>
              <a:off x="150840" y="0"/>
              <a:ext cx="360" cy="36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3920" y="685800"/>
            <a:ext cx="10015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3920" y="2666520"/>
            <a:ext cx="1001556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2936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571840" y="5882760"/>
            <a:ext cx="7081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4904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2F89-C372-4313-BF4D-BCA548F59CFD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buenosaires.gob.ar/sites/gcaba/files/ley26150.pdf" TargetMode="External"/><Relationship Id="rId3" Type="http://schemas.openxmlformats.org/officeDocument/2006/relationships/hyperlink" Target="http://www.buenosaires.gob.ar/sites/gcaba/files/ley2110.pdf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Google Shape;191;p23" descr=""/>
          <p:cNvPicPr/>
          <p:nvPr/>
        </p:nvPicPr>
        <p:blipFill>
          <a:blip r:embed="rId1"/>
          <a:stretch/>
        </p:blipFill>
        <p:spPr>
          <a:xfrm>
            <a:off x="1636560" y="2560680"/>
            <a:ext cx="9504360" cy="1735200"/>
          </a:xfrm>
          <a:prstGeom prst="rect">
            <a:avLst/>
          </a:prstGeom>
          <a:ln w="0">
            <a:noFill/>
          </a:ln>
        </p:spPr>
      </p:pic>
      <p:pic>
        <p:nvPicPr>
          <p:cNvPr id="104" name="Imagen 2" descr=""/>
          <p:cNvPicPr/>
          <p:nvPr/>
        </p:nvPicPr>
        <p:blipFill>
          <a:blip r:embed="rId2"/>
          <a:stretch/>
        </p:blipFill>
        <p:spPr>
          <a:xfrm>
            <a:off x="9082080" y="6253200"/>
            <a:ext cx="2951280" cy="49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 Título" descr=""/>
          <p:cNvPicPr/>
          <p:nvPr/>
        </p:nvPicPr>
        <p:blipFill>
          <a:blip r:embed="rId1"/>
          <a:stretch/>
        </p:blipFill>
        <p:spPr>
          <a:xfrm>
            <a:off x="1481040" y="36360"/>
            <a:ext cx="10015560" cy="1756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484280" y="1609560"/>
            <a:ext cx="9910800" cy="44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415800" indent="-35820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1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 u="sng">
                <a:solidFill>
                  <a:srgbClr val="00a3d6"/>
                </a:solidFill>
                <a:uFillTx/>
                <a:latin typeface="Corbel"/>
                <a:ea typeface="Corbel"/>
                <a:hlinkClick r:id="rId2"/>
              </a:rPr>
              <a:t>Ley Nacional 26.150 de 2006</a:t>
            </a:r>
            <a:r>
              <a:rPr b="0" lang="es-AR" sz="2300" spc="-1" strike="noStrike">
                <a:solidFill>
                  <a:srgbClr val="000000"/>
                </a:solidFill>
                <a:latin typeface="Corbel"/>
                <a:ea typeface="Corbel"/>
              </a:rPr>
              <a:t> - Ley del Programa Nacional de Educación Sex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5800" indent="-35820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rbel"/>
                <a:ea typeface="Corbel"/>
              </a:rPr>
              <a:t> </a:t>
            </a: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Es prioridad Nacional y se constituye en una Política de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232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«Establécese que todos los educandos tienen derecho a recibir educación sexual </a:t>
            </a:r>
            <a:r>
              <a:rPr b="1" i="1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integral en los establecimientos educativos públicos, de gestión estatal y privada </a:t>
            </a:r>
            <a:r>
              <a:rPr b="0" i="1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de las jurisdicciones nacional, provincial, de la Ciudad Autónoma de Buenos Aires y municipal.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100000"/>
              </a:lnSpc>
              <a:spcBef>
                <a:spcPts val="3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-35820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1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 u="sng">
                <a:solidFill>
                  <a:srgbClr val="00a3d6"/>
                </a:solidFill>
                <a:uFillTx/>
                <a:latin typeface="Corbel"/>
                <a:ea typeface="Corbel"/>
                <a:hlinkClick r:id="rId3"/>
              </a:rPr>
              <a:t>Ley 2.110 de 2006</a:t>
            </a:r>
            <a:r>
              <a:rPr b="0" lang="es-AR" sz="2300" spc="-1" strike="noStrike">
                <a:solidFill>
                  <a:srgbClr val="000000"/>
                </a:solidFill>
                <a:latin typeface="Corbel"/>
                <a:ea typeface="Corbel"/>
              </a:rPr>
              <a:t> - Ley de Educación Sexual Integral de la Ciudad Autónoma de Buenos Ai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5800" indent="-35820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Se establece la enseñanza de Educación Sexual Integral en todos los niveles obligatorios y en todas las modalidades del sistema educativo público de </a:t>
            </a:r>
            <a:r>
              <a:rPr b="1" lang="es-AR" sz="2000" spc="-1" strike="noStrike" u="sng">
                <a:solidFill>
                  <a:srgbClr val="000000"/>
                </a:solidFill>
                <a:uFillTx/>
                <a:latin typeface="Corbel"/>
                <a:ea typeface="Corbel"/>
              </a:rPr>
              <a:t>gestión estatal y de gestión privada </a:t>
            </a: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y en todas las carreras de formación docente, dependientes del Gobierno de la Ciudad Autónoma de Buenos Ai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n 4" descr=""/>
          <p:cNvPicPr/>
          <p:nvPr/>
        </p:nvPicPr>
        <p:blipFill>
          <a:blip r:embed="rId4"/>
          <a:stretch/>
        </p:blipFill>
        <p:spPr>
          <a:xfrm>
            <a:off x="9094680" y="6211800"/>
            <a:ext cx="2951280" cy="4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oogle Shape;202;p25" descr=""/>
          <p:cNvPicPr/>
          <p:nvPr/>
        </p:nvPicPr>
        <p:blipFill>
          <a:blip r:embed="rId1"/>
          <a:stretch/>
        </p:blipFill>
        <p:spPr>
          <a:xfrm>
            <a:off x="1481040" y="55440"/>
            <a:ext cx="10015560" cy="174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12640" y="2084040"/>
            <a:ext cx="10086840" cy="34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452520" indent="-38988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Protección contra la violencia familiar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Corbel"/>
                <a:ea typeface="Corbel"/>
              </a:rPr>
              <a:t>Ley 25.273/00</a:t>
            </a: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 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38988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Protección Integral de los derechos de niños/as y adolescentes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Corbel"/>
                <a:ea typeface="Corbel"/>
              </a:rPr>
              <a:t>Ley 25.673/03</a:t>
            </a: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38988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Matrimonio Civil 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Corbel"/>
                <a:ea typeface="Corbel"/>
              </a:rPr>
              <a:t>Ley 26743/12</a:t>
            </a: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 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38988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Identidad de género Ley 26743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38988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Ley para la promoción de la convivencia y el abordaje de la conflictividad social en instituciones educ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38988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Ley 27234/15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38988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Educar en igualdad: Prevención y erradicación de la violencia de gé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38988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00"/>
                </a:solidFill>
                <a:uFillTx/>
                <a:latin typeface="Corbel"/>
                <a:ea typeface="Corbel"/>
              </a:rPr>
              <a:t>Ley 23.798/90</a:t>
            </a: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 - Ley Nacional de S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38988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Régimen de inasistencia para alumnas embarazadas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Corbel"/>
                <a:ea typeface="Corbel"/>
              </a:rPr>
              <a:t>Ley 25.584/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magen 2" descr=""/>
          <p:cNvPicPr/>
          <p:nvPr/>
        </p:nvPicPr>
        <p:blipFill>
          <a:blip r:embed="rId2"/>
          <a:stretch/>
        </p:blipFill>
        <p:spPr>
          <a:xfrm>
            <a:off x="9082080" y="6211800"/>
            <a:ext cx="2951280" cy="4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Google Shape;209;p26" descr=""/>
          <p:cNvPicPr/>
          <p:nvPr/>
        </p:nvPicPr>
        <p:blipFill>
          <a:blip r:embed="rId1"/>
          <a:stretch/>
        </p:blipFill>
        <p:spPr>
          <a:xfrm>
            <a:off x="1481040" y="0"/>
            <a:ext cx="10015560" cy="1755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49360" y="2020680"/>
            <a:ext cx="10050480" cy="40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45520" indent="-245520">
              <a:lnSpc>
                <a:spcPct val="100000"/>
              </a:lnSpc>
              <a:buClr>
                <a:srgbClr val="c87d0e"/>
              </a:buClr>
              <a:buSzPct val="13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Constitución de la Ciudad/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buClr>
                <a:srgbClr val="c87d0e"/>
              </a:buClr>
              <a:buSzPct val="13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Ley 114/99 - Protección Integral de los derechos de niños/as y adolescentes</a:t>
            </a: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buClr>
                <a:srgbClr val="c87d0e"/>
              </a:buClr>
              <a:buSzPct val="13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Ley 223/99 - Sistema escolar de conviv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buClr>
                <a:srgbClr val="c87d0e"/>
              </a:buClr>
              <a:buSzPct val="13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Ley 474/00 - Plan de Igualdad de oportunidades y de trato entre varones y mujer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buClr>
                <a:srgbClr val="c87d0e"/>
              </a:buClr>
              <a:buSzPct val="13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Ley 418/00 - Salud reproductiva y procreación responsab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buClr>
                <a:srgbClr val="c87d0e"/>
              </a:buClr>
              <a:buSzPct val="13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Ley 709/01 - Régimen especial de inasistencias para alumnas embarazadas y alumnos en condiciones de paternida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buClr>
                <a:srgbClr val="c87d0e"/>
              </a:buClr>
              <a:buSzPct val="13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Ley 1004/02 - Unión Civ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buClr>
                <a:srgbClr val="c87d0e"/>
              </a:buClr>
              <a:buSzPct val="13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Ley 2110/06 - Ley de Educación Sexual Integr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buClr>
                <a:srgbClr val="c87d0e"/>
              </a:buClr>
              <a:buSzPct val="13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Ley 2687/08 - Día de la lucha contra la discriminación por orientación sexual o identidad de géne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buClr>
                <a:srgbClr val="c87d0e"/>
              </a:buClr>
              <a:buSzPct val="13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Ley 3.062/09 - Derecho a ser diferente Año 2009 y Resolución 2272/07. Obligatoriedad de asegurar la atención en las prestaciones conforme a la identidad de género adoptada. Secretaría de Salud 200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00000"/>
              </a:lnSpc>
              <a:buClr>
                <a:srgbClr val="c87d0e"/>
              </a:buClr>
              <a:buSzPct val="13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Ley 3266/09 - Violencia contra y entre niños, niñas y adolescentes. TIC. Prevención y erradic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n 1" descr=""/>
          <p:cNvPicPr/>
          <p:nvPr/>
        </p:nvPicPr>
        <p:blipFill>
          <a:blip r:embed="rId2"/>
          <a:stretch/>
        </p:blipFill>
        <p:spPr>
          <a:xfrm>
            <a:off x="9123480" y="6240600"/>
            <a:ext cx="2954160" cy="49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Google Shape;216;p27" descr=""/>
          <p:cNvPicPr/>
          <p:nvPr/>
        </p:nvPicPr>
        <p:blipFill>
          <a:blip r:embed="rId1"/>
          <a:stretch/>
        </p:blipFill>
        <p:spPr>
          <a:xfrm>
            <a:off x="1414440" y="30240"/>
            <a:ext cx="10015560" cy="1749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413000" y="1647360"/>
            <a:ext cx="10050480" cy="410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39384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9384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Resolución CFE Nº 340/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ESI en la Formación Do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Proyectos Escuelas o Institucionales se incluya el enfoque ESI, ya sea de manera transversal o de espacios curri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Equipo de referentes de ESI por escuela en todo 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Incluir contenidos ESI en los concursos de ascen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Asegurar la jornada «Educar en la Igualdad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  <a:ea typeface="Corbel"/>
              </a:rPr>
              <a:t>NAP (Niveles Inicial, Primario y Secunda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n 1" descr=""/>
          <p:cNvPicPr/>
          <p:nvPr/>
        </p:nvPicPr>
        <p:blipFill>
          <a:blip r:embed="rId2"/>
          <a:stretch/>
        </p:blipFill>
        <p:spPr>
          <a:xfrm>
            <a:off x="9067680" y="6211800"/>
            <a:ext cx="2951280" cy="4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1 Título" descr=""/>
          <p:cNvPicPr/>
          <p:nvPr/>
        </p:nvPicPr>
        <p:blipFill>
          <a:blip r:embed="rId1"/>
          <a:stretch/>
        </p:blipFill>
        <p:spPr>
          <a:xfrm>
            <a:off x="1852560" y="255600"/>
            <a:ext cx="9644040" cy="9399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39760" y="1398240"/>
            <a:ext cx="1036008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39384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1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Corbel"/>
                <a:ea typeface="Corbel"/>
              </a:rPr>
              <a:t>3 reuniones de trabajo en la Legislatura de la Ciudad con especialistas en la temática y la Comisión de Educac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393840">
              <a:lnSpc>
                <a:spcPct val="100000"/>
              </a:lnSpc>
              <a:spcBef>
                <a:spcPts val="363"/>
              </a:spcBef>
              <a:buClr>
                <a:srgbClr val="c87d0e"/>
              </a:buClr>
              <a:buSzPct val="11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Corbel"/>
                <a:ea typeface="Corbel"/>
              </a:rPr>
              <a:t>El Jefe de Gobierno y la Ministra de Educación se comprometen entre otras cuestiones 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6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Creación de la Coordinación General de Educación Sexual Integral ES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6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Designación de un </a:t>
            </a:r>
            <a:r>
              <a:rPr b="1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Equipo Referente ESI </a:t>
            </a: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por escuel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6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Incluir un cuadernillo específico ESI para el «Trayecto de Articulación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6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Continuar con el PPA (Plan personal de aprendizaje) Escuelas del Futu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6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Incorporar en los concursos de ascenso la temática de la gestión ES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6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Formación de </a:t>
            </a:r>
            <a:r>
              <a:rPr b="1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2 promotores/as ESI </a:t>
            </a: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entre los estudian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3840">
              <a:lnSpc>
                <a:spcPct val="100000"/>
              </a:lnSpc>
              <a:spcBef>
                <a:spcPts val="601"/>
              </a:spcBef>
              <a:buClr>
                <a:srgbClr val="c87d0e"/>
              </a:buClr>
              <a:buSzPct val="136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Corbel"/>
                <a:ea typeface="Corbel"/>
              </a:rPr>
              <a:t>Capacitación a Supervisores y Equipos Referentes ES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1" descr=""/>
          <p:cNvPicPr/>
          <p:nvPr/>
        </p:nvPicPr>
        <p:blipFill>
          <a:blip r:embed="rId2"/>
          <a:stretch/>
        </p:blipFill>
        <p:spPr>
          <a:xfrm>
            <a:off x="9109080" y="6261120"/>
            <a:ext cx="2951280" cy="49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 Título" descr=""/>
          <p:cNvPicPr/>
          <p:nvPr/>
        </p:nvPicPr>
        <p:blipFill>
          <a:blip r:embed="rId1"/>
          <a:stretch/>
        </p:blipFill>
        <p:spPr>
          <a:xfrm>
            <a:off x="1414440" y="165240"/>
            <a:ext cx="10015560" cy="86508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1" descr=""/>
          <p:cNvPicPr/>
          <p:nvPr/>
        </p:nvPicPr>
        <p:blipFill>
          <a:blip r:embed="rId2"/>
          <a:stretch/>
        </p:blipFill>
        <p:spPr>
          <a:xfrm>
            <a:off x="1519200" y="1371600"/>
            <a:ext cx="9914040" cy="4559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2" descr=""/>
          <p:cNvPicPr/>
          <p:nvPr/>
        </p:nvPicPr>
        <p:blipFill>
          <a:blip r:embed="rId3"/>
          <a:stretch/>
        </p:blipFill>
        <p:spPr>
          <a:xfrm>
            <a:off x="9094680" y="6230880"/>
            <a:ext cx="2951280" cy="49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 Marcador de texto" descr=""/>
          <p:cNvPicPr/>
          <p:nvPr/>
        </p:nvPicPr>
        <p:blipFill>
          <a:blip r:embed="rId1"/>
          <a:stretch/>
        </p:blipFill>
        <p:spPr>
          <a:xfrm>
            <a:off x="1438200" y="365040"/>
            <a:ext cx="10253880" cy="5761080"/>
          </a:xfrm>
          <a:prstGeom prst="rect">
            <a:avLst/>
          </a:prstGeom>
          <a:ln w="0">
            <a:noFill/>
          </a:ln>
        </p:spPr>
      </p:pic>
      <p:pic>
        <p:nvPicPr>
          <p:cNvPr id="124" name="Imagen 6" descr=""/>
          <p:cNvPicPr/>
          <p:nvPr/>
        </p:nvPicPr>
        <p:blipFill>
          <a:blip r:embed="rId2"/>
          <a:stretch/>
        </p:blipFill>
        <p:spPr>
          <a:xfrm>
            <a:off x="9109080" y="6253200"/>
            <a:ext cx="2951280" cy="49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ángulo 4" descr=""/>
          <p:cNvPicPr/>
          <p:nvPr/>
        </p:nvPicPr>
        <p:blipFill>
          <a:blip r:embed="rId1"/>
          <a:stretch/>
        </p:blipFill>
        <p:spPr>
          <a:xfrm>
            <a:off x="2541600" y="1646280"/>
            <a:ext cx="8364600" cy="356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rian</dc:creator>
  <dc:description/>
  <dc:language>en-US</dc:language>
  <cp:lastModifiedBy>Lic. Adrián Mazzuglia</cp:lastModifiedBy>
  <dcterms:modified xsi:type="dcterms:W3CDTF">2019-04-09T11:37:28Z</dcterms:modified>
  <cp:revision>49</cp:revision>
  <dc:subject/>
  <dc:title>Presentación de PowerPoint</dc:title>
</cp:coreProperties>
</file>